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928E-BDCE-44E5-ACB8-FF3B93C8C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7348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277E-E60D-4738-A820-D366CA217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2A7C-9BB2-477E-A304-12EE24970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6A24-8C6D-4EE4-AF76-84AA48ECA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925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9FFA-A6FF-4D06-85A7-E9AFFD889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417348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8896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8800" y="19047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8896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8800" y="417348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A13D-3936-45E5-9A9F-9B0CFD386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ED75-D95A-4193-9C32-1863CFA3C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DFE9-4B3F-4763-A24B-1E5E91F5B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925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9EDF-9CDC-4B29-B6E8-81D3E924F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B2E1-8C43-446F-85A2-3D7BCB1F9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7348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81FC-4D59-4FCB-BB9A-0B7217B9B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047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73480"/>
            <a:ext cx="7925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9523-E631-4093-B810-BAC2A0279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Click to edit the outline text format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1" marL="343080" indent="-343080">
              <a:lnSpc>
                <a:spcPts val="2599"/>
              </a:lnSpc>
              <a:buClr>
                <a:srgbClr val="f00000"/>
              </a:buClr>
              <a:buFont typeface="Pol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Second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2" marL="343080" indent="-343080">
              <a:lnSpc>
                <a:spcPts val="2599"/>
              </a:lnSpc>
              <a:buClr>
                <a:srgbClr val="f21c0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Third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3" marL="343080" indent="-343080">
              <a:lnSpc>
                <a:spcPts val="2599"/>
              </a:lnSpc>
              <a:buClr>
                <a:srgbClr val="f31c0a"/>
              </a:buClr>
              <a:buSzPct val="9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Fourth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4" marL="343080" indent="-343080">
              <a:lnSpc>
                <a:spcPts val="2599"/>
              </a:lnSpc>
              <a:buClr>
                <a:srgbClr val="f21c0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Fifth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5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Sixth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6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Seventh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97400" y="6552720"/>
            <a:ext cx="1436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61B3-A390-476F-B48D-F7825A414E04}" type="datetime3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, E.ON, </a:t>
            </a:r>
            <a:r>
              <a:rPr b="0" lang="de-DE" sz="7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C7FD7A-4A88-4EBC-8EE6-5365B8834091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91"/>
          <p:cNvSpPr/>
          <p:nvPr/>
        </p:nvSpPr>
        <p:spPr>
          <a:xfrm>
            <a:off x="608040" y="6553080"/>
            <a:ext cx="10796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Polo"/>
              </a:rPr>
              <a:t>© 2007 E.ON </a:t>
            </a:r>
            <a:endParaRPr b="0" lang="en-US" sz="7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" name="Straight Connector 13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1908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olo"/>
            </a:endParaRPr>
          </a:p>
        </p:txBody>
      </p:sp>
      <p:pic>
        <p:nvPicPr>
          <p:cNvPr id="5" name="Picture 2" descr="G:\TEAM\Brand_Comms\BSAM\General\Integrated Comms Support\Brand\Logos\E.ON UK\Red on White\wmf\EON_n_UK_RGB.WMF"/>
          <p:cNvPicPr/>
          <p:nvPr/>
        </p:nvPicPr>
        <p:blipFill>
          <a:blip r:embed="rId2"/>
          <a:stretch/>
        </p:blipFill>
        <p:spPr>
          <a:xfrm>
            <a:off x="301680" y="358920"/>
            <a:ext cx="1771560" cy="48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G:\TEAM\Brand_Comms\BSAM\General\Integrated Comms Support\Brand\Logos\E.ON UK\Red on White\wmf\EON_n_UK_RGB.WMF"/>
          <p:cNvPicPr/>
          <p:nvPr/>
        </p:nvPicPr>
        <p:blipFill>
          <a:blip r:embed="rId2"/>
          <a:stretch/>
        </p:blipFill>
        <p:spPr>
          <a:xfrm>
            <a:off x="560520" y="852480"/>
            <a:ext cx="3330360" cy="91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Click to edit the outline text format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1" marL="343080" indent="-343080">
              <a:lnSpc>
                <a:spcPts val="2599"/>
              </a:lnSpc>
              <a:buClr>
                <a:srgbClr val="f00000"/>
              </a:buClr>
              <a:buFont typeface="Pol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Second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2" marL="343080" indent="-343080">
              <a:lnSpc>
                <a:spcPts val="2599"/>
              </a:lnSpc>
              <a:buClr>
                <a:srgbClr val="f21c0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Third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3" marL="343080" indent="-343080">
              <a:lnSpc>
                <a:spcPts val="2599"/>
              </a:lnSpc>
              <a:buClr>
                <a:srgbClr val="f31c0a"/>
              </a:buClr>
              <a:buSzPct val="9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Fourth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4" marL="343080" indent="-343080">
              <a:lnSpc>
                <a:spcPts val="2599"/>
              </a:lnSpc>
              <a:buClr>
                <a:srgbClr val="f21c0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Fifth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5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Sixth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  <a:p>
            <a:pPr lvl="6" marL="343080" indent="-343080">
              <a:lnSpc>
                <a:spcPts val="2599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1c0a"/>
                </a:solidFill>
                <a:latin typeface="Polo"/>
              </a:rPr>
              <a:t>Seventh Outline Level</a:t>
            </a:r>
            <a:endParaRPr b="1" lang="en-US" sz="2000" spc="-1" strike="noStrike">
              <a:solidFill>
                <a:srgbClr val="f21c0a"/>
              </a:solidFill>
              <a:latin typeface="Pol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24200" y="4267080"/>
            <a:ext cx="510552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1c0a"/>
                </a:solidFill>
                <a:latin typeface="Polo"/>
              </a:rPr>
              <a:t>Demand Estimation Seasonal Normal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24200" y="5510160"/>
            <a:ext cx="510552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1c0a"/>
                </a:solidFill>
                <a:latin typeface="Polo"/>
              </a:rPr>
              <a:t>Friday 2</a:t>
            </a:r>
            <a:r>
              <a:rPr b="0" lang="en-US" sz="1600" spc="-1" strike="noStrike" baseline="30000">
                <a:solidFill>
                  <a:srgbClr val="f21c0a"/>
                </a:solidFill>
                <a:latin typeface="Polo"/>
              </a:rPr>
              <a:t>nd</a:t>
            </a:r>
            <a:r>
              <a:rPr b="0" lang="en-US" sz="1600" spc="-1" strike="noStrike">
                <a:solidFill>
                  <a:srgbClr val="f21c0a"/>
                </a:solidFill>
                <a:latin typeface="Polo"/>
              </a:rPr>
              <a:t> October 2009</a:t>
            </a:r>
            <a:endParaRPr b="1" lang="en-US" sz="1600" spc="-1" strike="noStrike">
              <a:solidFill>
                <a:srgbClr val="f21c0a"/>
              </a:solidFill>
              <a:latin typeface="Pol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97760" y="6553080"/>
            <a:ext cx="1436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2860-3B8C-40B3-9AE5-2826E495B86E}" type="datetime3">
              <a:rPr b="0" lang="en-GB" sz="700" spc="-1" strike="noStrike">
                <a:solidFill>
                  <a:srgbClr val="000000"/>
                </a:solidFill>
                <a:latin typeface="Polo"/>
              </a:rPr>
              <a:t>29 July 2026</a:t>
            </a:fld>
            <a:r>
              <a:rPr b="0" lang="en-GB" sz="700" spc="-1" strike="noStrike">
                <a:solidFill>
                  <a:srgbClr val="000000"/>
                </a:solidFill>
                <a:latin typeface="Polo"/>
              </a:rPr>
              <a:t>, E.ON, </a:t>
            </a:r>
            <a:r>
              <a:rPr b="0" lang="de-DE" sz="700" spc="-1" strike="noStrike">
                <a:solidFill>
                  <a:srgbClr val="000000"/>
                </a:solidFill>
                <a:latin typeface="Polo"/>
              </a:rPr>
              <a:t>Page </a:t>
            </a:r>
            <a:fld id="{39D585E5-A5B3-4238-9FB6-D475ECB030AC}" type="slidenum">
              <a:rPr b="0" lang="en-GB" sz="700" spc="-1" strike="noStrike">
                <a:solidFill>
                  <a:srgbClr val="000000"/>
                </a:solidFill>
                <a:latin typeface="Polo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Increments from EP2 climate change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609480" y="1905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63600" indent="-1890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Changes in climate from the EP2 work provided: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A set of forecast years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Used to produce 31 year averages centred on each year from 2008 onwards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Output was converted to a single base year and increments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2057400" indent="-22860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2010 has a set of increments that specifically relate to the adjustment to raise the base year to a 31 year average centred on 2010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2057400" indent="-22860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Each year has a specific set of increments that vary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2057400" indent="-22860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Cannot use one years increments with different base years as the two items need to sum to the EP2 forecast output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marL="174600" indent="-1746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97760" y="6553080"/>
            <a:ext cx="1436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1D8D-D707-47F5-80B8-E992D997D871}" type="datetime3">
              <a:rPr b="0" lang="en-GB" sz="700" spc="-1" strike="noStrike">
                <a:solidFill>
                  <a:srgbClr val="000000"/>
                </a:solidFill>
                <a:latin typeface="Polo"/>
              </a:rPr>
              <a:t>29 July 2026</a:t>
            </a:fld>
            <a:r>
              <a:rPr b="0" lang="en-GB" sz="700" spc="-1" strike="noStrike">
                <a:solidFill>
                  <a:srgbClr val="000000"/>
                </a:solidFill>
                <a:latin typeface="Polo"/>
              </a:rPr>
              <a:t>, E.ON, </a:t>
            </a:r>
            <a:r>
              <a:rPr b="0" lang="de-DE" sz="700" spc="-1" strike="noStrike">
                <a:solidFill>
                  <a:srgbClr val="000000"/>
                </a:solidFill>
                <a:latin typeface="Polo"/>
              </a:rPr>
              <a:t>Page </a:t>
            </a:r>
            <a:fld id="{936AFC50-53B8-4586-97EC-37AB90D6C3DF}" type="slidenum">
              <a:rPr b="0" lang="en-GB" sz="700" spc="-1" strike="noStrike">
                <a:solidFill>
                  <a:srgbClr val="000000"/>
                </a:solidFill>
                <a:latin typeface="Polo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Increment changes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609480" y="1905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319680" indent="-16632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The following chart is from the Met Office EP2 output: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Lines show the increment needed to move the base year to each year in question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Increased in increment is not linear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Therefore to apply to different base years as in the xoserve method requires different increments 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Significant cooling from inappropriate                                                         values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olo"/>
              </a:rPr>
              <a:t>Solid lines are for max</a:t>
            </a:r>
            <a:endParaRPr b="0" lang="en-US" sz="12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olo"/>
              </a:rPr>
              <a:t>Dotted lines for min</a:t>
            </a:r>
            <a:endParaRPr b="0" lang="en-US" sz="12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73400" indent="-15336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marL="153360" indent="-15336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51520" y="3551400"/>
            <a:ext cx="382896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97760" y="6553080"/>
            <a:ext cx="1436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31ED-9348-4493-9634-FA815CC0FF07}" type="datetime3">
              <a:rPr b="0" lang="en-GB" sz="700" spc="-1" strike="noStrike">
                <a:solidFill>
                  <a:srgbClr val="000000"/>
                </a:solidFill>
                <a:latin typeface="Polo"/>
              </a:rPr>
              <a:t>29 July 2026</a:t>
            </a:fld>
            <a:r>
              <a:rPr b="0" lang="en-GB" sz="700" spc="-1" strike="noStrike">
                <a:solidFill>
                  <a:srgbClr val="000000"/>
                </a:solidFill>
                <a:latin typeface="Polo"/>
              </a:rPr>
              <a:t>, E.ON, </a:t>
            </a:r>
            <a:r>
              <a:rPr b="0" lang="de-DE" sz="700" spc="-1" strike="noStrike">
                <a:solidFill>
                  <a:srgbClr val="000000"/>
                </a:solidFill>
                <a:latin typeface="Polo"/>
              </a:rPr>
              <a:t>Page </a:t>
            </a:r>
            <a:fld id="{C637714A-A338-477C-A717-1A956D28C76F}" type="slidenum">
              <a:rPr b="0" lang="en-GB" sz="700" spc="-1" strike="noStrike">
                <a:solidFill>
                  <a:srgbClr val="000000"/>
                </a:solidFill>
                <a:latin typeface="Polo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Wind Impact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566640" y="192240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63600" indent="-1890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The following chart uses our calculation of CWV degree days: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CWV calculated as normal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CWV calculated with zero windspeed to show maximum warming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Comparison to average CWV calculated by xoserve using daily and average methods 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marL="174600" indent="-1746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97760" y="6553080"/>
            <a:ext cx="1436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F5B5-4FEA-4877-9853-81E4E267B6D9}" type="datetime3">
              <a:rPr b="0" lang="en-GB" sz="700" spc="-1" strike="noStrike">
                <a:solidFill>
                  <a:srgbClr val="000000"/>
                </a:solidFill>
                <a:latin typeface="Polo"/>
              </a:rPr>
              <a:t>29 July 2026</a:t>
            </a:fld>
            <a:r>
              <a:rPr b="0" lang="en-GB" sz="700" spc="-1" strike="noStrike">
                <a:solidFill>
                  <a:srgbClr val="000000"/>
                </a:solidFill>
                <a:latin typeface="Polo"/>
              </a:rPr>
              <a:t>, E.ON, </a:t>
            </a:r>
            <a:r>
              <a:rPr b="0" lang="de-DE" sz="700" spc="-1" strike="noStrike">
                <a:solidFill>
                  <a:srgbClr val="000000"/>
                </a:solidFill>
                <a:latin typeface="Polo"/>
              </a:rPr>
              <a:t>Page </a:t>
            </a:r>
            <a:fld id="{24586D5B-C228-4208-9FDA-5989AB4AAFDA}" type="slidenum">
              <a:rPr b="0" lang="en-GB" sz="700" spc="-1" strike="noStrike">
                <a:solidFill>
                  <a:srgbClr val="000000"/>
                </a:solidFill>
                <a:latin typeface="Polo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Wind Impact Chart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577880"/>
            <a:ext cx="813888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97760" y="6553080"/>
            <a:ext cx="1436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2671-EDC6-43A8-A8F4-3AA0D4349E88}" type="datetime3">
              <a:rPr b="0" lang="en-GB" sz="700" spc="-1" strike="noStrike">
                <a:solidFill>
                  <a:srgbClr val="000000"/>
                </a:solidFill>
                <a:latin typeface="Polo"/>
              </a:rPr>
              <a:t>29 July 2026</a:t>
            </a:fld>
            <a:r>
              <a:rPr b="0" lang="en-GB" sz="700" spc="-1" strike="noStrike">
                <a:solidFill>
                  <a:srgbClr val="000000"/>
                </a:solidFill>
                <a:latin typeface="Polo"/>
              </a:rPr>
              <a:t>, E.ON, </a:t>
            </a:r>
            <a:r>
              <a:rPr b="0" lang="de-DE" sz="700" spc="-1" strike="noStrike">
                <a:solidFill>
                  <a:srgbClr val="000000"/>
                </a:solidFill>
                <a:latin typeface="Polo"/>
              </a:rPr>
              <a:t>Page </a:t>
            </a:r>
            <a:fld id="{B79D99A4-B9D1-4D8D-A347-2AB4611477B5}" type="slidenum">
              <a:rPr b="0" lang="en-GB" sz="700" spc="-1" strike="noStrike">
                <a:solidFill>
                  <a:srgbClr val="000000"/>
                </a:solidFill>
                <a:latin typeface="Polo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Wind Impact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574560" y="155736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3" marL="462600" indent="-15012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Wind seems to have less impact than xoserve are stating – second order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1769040" indent="-19656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7 days impact in June, 2 in July, 1 in August 2008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1769040" indent="-19656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Average summer impact 0.04 degree days per day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1769040" indent="-19656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Total difference: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1769040" indent="-19656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0.2 degree days per day in 2008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1769040" indent="-19656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0.18 degree days in 2007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1769040" indent="-19656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0.17 degree days in 2006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4" marL="1769040" indent="-196560">
              <a:lnSpc>
                <a:spcPts val="2599"/>
              </a:lnSpc>
              <a:buClr>
                <a:srgbClr val="f21c0a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On average 40% lower with NO WIND than the daily to average calculation impact stated by xoserve suggesting incorrect increments have as large an impact to understating wind in averages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62600" indent="-15012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Average calculation fits at shoulder months to observed (true for 2005 to date)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62600" indent="-15012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Suggests that the EP2 limitations are not significant particularly with seasonal shape changes warming shoulder months and maximum temps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62600" indent="-15012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62600" indent="-15012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462600" indent="-15012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marL="150120" indent="-15012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97760" y="6553080"/>
            <a:ext cx="1436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939F-CEAB-4BA6-B78A-89B0B3163436}" type="datetime3">
              <a:rPr b="0" lang="en-GB" sz="700" spc="-1" strike="noStrike">
                <a:solidFill>
                  <a:srgbClr val="000000"/>
                </a:solidFill>
                <a:latin typeface="Polo"/>
              </a:rPr>
              <a:t>29 July 2026</a:t>
            </a:fld>
            <a:r>
              <a:rPr b="0" lang="en-GB" sz="700" spc="-1" strike="noStrike">
                <a:solidFill>
                  <a:srgbClr val="000000"/>
                </a:solidFill>
                <a:latin typeface="Polo"/>
              </a:rPr>
              <a:t>, E.ON, </a:t>
            </a:r>
            <a:r>
              <a:rPr b="0" lang="de-DE" sz="700" spc="-1" strike="noStrike">
                <a:solidFill>
                  <a:srgbClr val="000000"/>
                </a:solidFill>
                <a:latin typeface="Polo"/>
              </a:rPr>
              <a:t>Page </a:t>
            </a:r>
            <a:fld id="{02D26BD4-FE45-4F9B-8A38-37D1EDE4FF76}" type="slidenum">
              <a:rPr b="0" lang="en-GB" sz="700" spc="-1" strike="noStrike">
                <a:solidFill>
                  <a:srgbClr val="000000"/>
                </a:solidFill>
                <a:latin typeface="Polo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Impact of EP2 climate change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600120" y="165276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63600" indent="-1890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Changes in temperature from the EP2 climate work: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Increased warming over the period we are applying seasonal normal to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Warming greatest in shoulder months but also significant for other periods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olo"/>
              </a:rPr>
              <a:t>EP2 designed to provide view of EXPECTED (normal) climate for each year 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38200" indent="-1746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marL="174600" indent="-1746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1840" y="2981160"/>
            <a:ext cx="4643280" cy="354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305240" y="3052800"/>
            <a:ext cx="47023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097760" y="6553080"/>
            <a:ext cx="1436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EB24-939F-4297-957B-8A4713D320F0}" type="datetime3">
              <a:rPr b="0" lang="en-GB" sz="700" spc="-1" strike="noStrike">
                <a:solidFill>
                  <a:srgbClr val="000000"/>
                </a:solidFill>
                <a:latin typeface="Polo"/>
              </a:rPr>
              <a:t>29 July 2026</a:t>
            </a:fld>
            <a:r>
              <a:rPr b="0" lang="en-GB" sz="700" spc="-1" strike="noStrike">
                <a:solidFill>
                  <a:srgbClr val="000000"/>
                </a:solidFill>
                <a:latin typeface="Polo"/>
              </a:rPr>
              <a:t>, E.ON, </a:t>
            </a:r>
            <a:r>
              <a:rPr b="0" lang="de-DE" sz="700" spc="-1" strike="noStrike">
                <a:solidFill>
                  <a:srgbClr val="000000"/>
                </a:solidFill>
                <a:latin typeface="Polo"/>
              </a:rPr>
              <a:t>Page </a:t>
            </a:r>
            <a:fld id="{847EA807-39BA-4B00-96CB-7BA53A18BA32}" type="slidenum">
              <a:rPr b="0" lang="en-GB" sz="700" spc="-1" strike="noStrike">
                <a:solidFill>
                  <a:srgbClr val="000000"/>
                </a:solidFill>
                <a:latin typeface="Polo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olo"/>
              </a:rPr>
              <a:t>Changes in CWV – to mitigate concern on wind effect</a:t>
            </a:r>
            <a:endParaRPr b="0" lang="en-US" sz="2600" spc="-1" strike="noStrike">
              <a:solidFill>
                <a:srgbClr val="000000"/>
              </a:solidFill>
              <a:latin typeface="Polo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557280" y="16956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356040" indent="-18504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Changes in CWV between average method and daily method: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Average change for WM example used 0.09 (xoserve figures)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Maximum change 0.6 in June (xoserve figures)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Roughly equivalent to an effective temperature change of 0.12 (max 0.9)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EP2 change between 2010 and 2014 is an average of 0.14 (max 0.2 - June)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EP2 change between 2010 and 2012 is an average of 0.08 (max 0.11 - May)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olo"/>
              </a:rPr>
              <a:t>Suggested option use 2010 as base year to compensate for the lack of cooling impact from averaging methodology?</a:t>
            </a: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buClr>
                <a:srgbClr val="f31c0a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lvl="3" marL="527400" indent="-1710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  <a:p>
            <a:pPr marL="171000" indent="-17100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ol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3:11:02Z</dcterms:created>
  <dc:creator>s17543</dc:creator>
  <dc:description/>
  <dc:language>en-US</dc:language>
  <cp:lastModifiedBy>s17543</cp:lastModifiedBy>
  <cp:lastPrinted>2002-03-08T08:17:46Z</cp:lastPrinted>
  <dcterms:modified xsi:type="dcterms:W3CDTF">2009-10-01T10:57:27Z</dcterms:modified>
  <cp:revision>8</cp:revision>
  <dc:subject/>
  <dc:title>Slide 1</dc:title>
</cp:coreProperties>
</file>