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4360" y="477360"/>
            <a:ext cx="7775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1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0a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528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94920"/>
            <a:ext cx="777528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4360" y="477360"/>
            <a:ext cx="7775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1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0a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379404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404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94920"/>
            <a:ext cx="379404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94920"/>
            <a:ext cx="379404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4360" y="477360"/>
            <a:ext cx="7775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1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0a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250344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440" y="1700280"/>
            <a:ext cx="250344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2520" y="1700280"/>
            <a:ext cx="250344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94920"/>
            <a:ext cx="250344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440" y="3994920"/>
            <a:ext cx="250344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2520" y="3994920"/>
            <a:ext cx="250344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477360"/>
            <a:ext cx="7775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1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0a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4360" y="1700280"/>
            <a:ext cx="777528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477360"/>
            <a:ext cx="7775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1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0a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528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477360"/>
            <a:ext cx="7775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1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0a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37940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40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477360"/>
            <a:ext cx="7775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1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0a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4360" y="477360"/>
            <a:ext cx="777528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477360"/>
            <a:ext cx="7775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1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0a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379404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40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4360" y="3994920"/>
            <a:ext cx="379404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4360" y="477360"/>
            <a:ext cx="7775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1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0a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700280"/>
            <a:ext cx="777528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477360"/>
            <a:ext cx="7775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1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0a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37940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404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994920"/>
            <a:ext cx="379404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477360"/>
            <a:ext cx="7775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1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0a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379404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404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4360" y="3994920"/>
            <a:ext cx="777528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477360"/>
            <a:ext cx="7775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1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0a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528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4360" y="3994920"/>
            <a:ext cx="777528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477360"/>
            <a:ext cx="7775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1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0a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379404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404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4360" y="3994920"/>
            <a:ext cx="379404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994920"/>
            <a:ext cx="379404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477360"/>
            <a:ext cx="7775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1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0a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250344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440" y="1700280"/>
            <a:ext cx="250344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2520" y="1700280"/>
            <a:ext cx="250344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4360" y="3994920"/>
            <a:ext cx="250344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440" y="3994920"/>
            <a:ext cx="250344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2520" y="3994920"/>
            <a:ext cx="250344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360" y="477360"/>
            <a:ext cx="7775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1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0a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528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477360"/>
            <a:ext cx="7775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1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0a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37940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40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4360" y="477360"/>
            <a:ext cx="7775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1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0a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4360" y="477360"/>
            <a:ext cx="777528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477360"/>
            <a:ext cx="7775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1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0a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379404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40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94920"/>
            <a:ext cx="379404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4360" y="477360"/>
            <a:ext cx="7775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1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0a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37940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404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94920"/>
            <a:ext cx="379404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4360" y="477360"/>
            <a:ext cx="7775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1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0a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379404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404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94920"/>
            <a:ext cx="777528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477360"/>
            <a:ext cx="7775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1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50a6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50a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700280"/>
            <a:ext cx="777528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spcAft>
                <a:spcPts val="2500"/>
              </a:spcAft>
              <a:buClr>
                <a:srgbClr val="0050a6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262080">
              <a:spcAft>
                <a:spcPts val="2500"/>
              </a:spcAft>
              <a:buClr>
                <a:srgbClr val="0050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6400" indent="-274680">
              <a:spcAft>
                <a:spcPts val="2500"/>
              </a:spcAft>
              <a:buClr>
                <a:srgbClr val="0050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73160" indent="-264960">
              <a:spcAft>
                <a:spcPts val="2500"/>
              </a:spcAft>
              <a:buClr>
                <a:srgbClr val="0050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39920" indent="-265320">
              <a:spcAft>
                <a:spcPts val="2500"/>
              </a:spcAft>
              <a:buClr>
                <a:srgbClr val="0050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39920" indent="-265320">
              <a:spcAft>
                <a:spcPts val="2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39920" indent="-265320">
              <a:spcAft>
                <a:spcPts val="2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844720" y="6308640"/>
            <a:ext cx="525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W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company name   </a:t>
            </a:r>
            <a:fld id="{7DEBD3DE-A8C2-4D18-A653-1C1F11AF4EED}" type="datetime">
              <a:rPr b="0" lang="en-US" sz="800" spc="-1" strike="noStrike">
                <a:solidFill>
                  <a:srgbClr val="000000"/>
                </a:solidFill>
                <a:latin typeface="Arial"/>
              </a:rPr>
              <a:t>07/29/26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8459640" y="6308640"/>
            <a:ext cx="57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76A8E07F-23B3-41A0-9B95-B00E454BD3E2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3" descr="WPA Server: K. Logos Store:NPOWER:npower logos:npower:npower® logo 2004 RGB PPT.jpg"/>
          <p:cNvPicPr/>
          <p:nvPr/>
        </p:nvPicPr>
        <p:blipFill>
          <a:blip r:embed="rId2"/>
          <a:stretch/>
        </p:blipFill>
        <p:spPr>
          <a:xfrm>
            <a:off x="685800" y="6408720"/>
            <a:ext cx="1511280" cy="24624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5" descr="An RWE company RGB"/>
          <p:cNvPicPr/>
          <p:nvPr/>
        </p:nvPicPr>
        <p:blipFill>
          <a:blip r:embed="rId3"/>
          <a:stretch/>
        </p:blipFill>
        <p:spPr>
          <a:xfrm>
            <a:off x="3917880" y="6467400"/>
            <a:ext cx="1528920" cy="214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4"/>
          <p:cNvSpPr/>
          <p:nvPr/>
        </p:nvSpPr>
        <p:spPr>
          <a:xfrm>
            <a:off x="2819520" y="6324480"/>
            <a:ext cx="525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any name   </a:t>
            </a:r>
            <a:fld id="{F419A1A3-CCC0-4B73-B043-CF2C17E9687A}" type="datetime">
              <a:rPr b="0" lang="en-US" sz="800" spc="-1" strike="noStrike">
                <a:solidFill>
                  <a:srgbClr val="000000"/>
                </a:solidFill>
                <a:latin typeface="Arial"/>
              </a:rPr>
              <a:t>07/29/26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5"/>
          <p:cNvSpPr/>
          <p:nvPr/>
        </p:nvSpPr>
        <p:spPr>
          <a:xfrm>
            <a:off x="8459640" y="6308640"/>
            <a:ext cx="57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5C6133F0-8DB2-416B-A794-321832A35268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477360"/>
            <a:ext cx="7775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1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50a6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50a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4360" y="1700280"/>
            <a:ext cx="777528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spcAft>
                <a:spcPts val="2500"/>
              </a:spcAft>
              <a:buClr>
                <a:srgbClr val="0050a6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262080">
              <a:spcAft>
                <a:spcPts val="2500"/>
              </a:spcAft>
              <a:buClr>
                <a:srgbClr val="0050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6400" indent="-274680">
              <a:spcAft>
                <a:spcPts val="2500"/>
              </a:spcAft>
              <a:buClr>
                <a:srgbClr val="0050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73160" indent="-264960">
              <a:spcAft>
                <a:spcPts val="2500"/>
              </a:spcAft>
              <a:buClr>
                <a:srgbClr val="0050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39920" indent="-265320">
              <a:spcAft>
                <a:spcPts val="2500"/>
              </a:spcAft>
              <a:buClr>
                <a:srgbClr val="0050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39920" indent="-265320">
              <a:spcAft>
                <a:spcPts val="2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39920" indent="-265320">
              <a:spcAft>
                <a:spcPts val="2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gradFill rotWithShape="0">
            <a:gsLst>
              <a:gs pos="0">
                <a:srgbClr val="d5edfa"/>
              </a:gs>
              <a:gs pos="100000">
                <a:srgbClr val="a2daf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WPA Server: K. Logos Store:NPOWER:npower logos:npower:npower® logo 2004 RGB PPT.jpg"/>
          <p:cNvPicPr/>
          <p:nvPr/>
        </p:nvPicPr>
        <p:blipFill>
          <a:blip r:embed="rId1"/>
          <a:stretch/>
        </p:blipFill>
        <p:spPr>
          <a:xfrm>
            <a:off x="684360" y="4773600"/>
            <a:ext cx="2744640" cy="4460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An RWE company RGB"/>
          <p:cNvPicPr/>
          <p:nvPr/>
        </p:nvPicPr>
        <p:blipFill>
          <a:blip r:embed="rId2"/>
          <a:stretch/>
        </p:blipFill>
        <p:spPr>
          <a:xfrm>
            <a:off x="412920" y="6362640"/>
            <a:ext cx="2706480" cy="3794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5"/>
          <p:cNvSpPr/>
          <p:nvPr/>
        </p:nvSpPr>
        <p:spPr>
          <a:xfrm>
            <a:off x="0" y="0"/>
            <a:ext cx="9147240" cy="4390920"/>
          </a:xfrm>
          <a:prstGeom prst="rect">
            <a:avLst/>
          </a:prstGeom>
          <a:gradFill rotWithShape="0">
            <a:gsLst>
              <a:gs pos="0">
                <a:srgbClr val="d5edfa"/>
              </a:gs>
              <a:gs pos="100000">
                <a:srgbClr val="f5fb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528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0a6"/>
                </a:solidFill>
                <a:latin typeface="Arial"/>
              </a:rPr>
              <a:t>DESC – </a:t>
            </a:r>
            <a:r>
              <a:rPr b="0" lang="en-US" sz="2400" spc="-1" strike="noStrike">
                <a:solidFill>
                  <a:srgbClr val="0050a6"/>
                </a:solidFill>
                <a:latin typeface="Arial"/>
              </a:rPr>
              <a:t>SN_CWV review</a:t>
            </a:r>
            <a:endParaRPr b="0" lang="en-US" sz="2400" spc="-1" strike="noStrike">
              <a:solidFill>
                <a:srgbClr val="0050a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4360" y="2997360"/>
            <a:ext cx="7775280" cy="12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ctobe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477360"/>
            <a:ext cx="77752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18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0a6"/>
                </a:solidFill>
                <a:latin typeface="Arial"/>
              </a:rPr>
              <a:t>Observation density for weather stations</a:t>
            </a:r>
            <a:endParaRPr b="0" lang="en-US" sz="2000" spc="-1" strike="noStrike">
              <a:solidFill>
                <a:srgbClr val="0050a6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684360" y="836640"/>
          <a:ext cx="7029360" cy="5095800"/>
        </p:xfrm>
        <a:graphic>
          <a:graphicData uri="http://schemas.openxmlformats.org/drawingml/2006/table">
            <a:tbl>
              <a:tblPr/>
              <a:tblGrid>
                <a:gridCol w="2106360"/>
                <a:gridCol w="1360440"/>
                <a:gridCol w="1359000"/>
                <a:gridCol w="1131840"/>
                <a:gridCol w="1071720"/>
              </a:tblGrid>
              <a:tr h="20016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tation Na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egin 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nd 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TempDensi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WindDensi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6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ERDEEN/DYCE ARP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/01/1987 00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7/31/2007 23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LASGOW BISHOPT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3/30/2003 00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7/31/2007 21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6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  <a:tr h="1872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LASGOW ARP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/01/1987 00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7/31/2007 23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BEMAR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3/30/2003 00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7/31/2007 21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  <a:tr h="18756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WCASTLE WX CNT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/01/1990 00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/04/2005 12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864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NTON-ON-OU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/05/1987 00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7/31/2007 23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HY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/01/1987 00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7/31/2007 21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2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NCHESTER ARP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/01/1987 00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7/31/2007 23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OODFOR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8/03/2004 11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7/31/2007 21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2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TINGHAM/WATN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/01/1987 00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7/31/2007 21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  <a:tr h="1890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URCH FENT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/05/1987 00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7/31/2007 21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IRMINGHAM ARP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/01/1987 00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7/31/2007 23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2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LESHI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9/15/2001 20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7/31/2007 21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3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  <a:tr h="1890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ATTISH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/01/1987 00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7/31/2007 23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2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ISTOL FILT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7/18/1994 07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7/31/2007 18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  <a:tr h="1890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NS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/01/1987 23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7/31/2007 23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DIFF-WALES ARP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/01/1987 00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7/31/2007 23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2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. ATHA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7/06/2001 15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7/31/2007 21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  <a:tr h="1890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DIFF WX CNT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/01/1987 06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6/15/2006 03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2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ARLWOO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3/01/1992 00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7/31/2007 21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NDON/HEATHROW 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/01/1987 00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7/31/2007 23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  <a:tr h="1890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NDON/GATWICK ARP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/01/1987 00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7/31/2007 23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2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NDON WX CNT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/01/1987 00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7/31/2007 21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DHI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7/02/2001 10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2/28/2006 10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2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OVILT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/01/1987 00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7/31/2007 21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18000" rIns="18000" tIns="18000" bIns="18000" anchor="b">
                      <a:noAutofit/>
                    </a:bodyPr>
                    <a:p>
                      <a:pPr algn="ct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THAMPTON WX CNT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/01/1987 00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7/31/2007 22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 algn="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0T11:03:33Z</dcterms:created>
  <dc:creator>RWE AG</dc:creator>
  <dc:description>Template: 2008-04-25</dc:description>
  <dc:language>en-US</dc:language>
  <cp:lastModifiedBy>Bob Fletcher</cp:lastModifiedBy>
  <cp:lastPrinted>2008-11-12T15:08:42Z</cp:lastPrinted>
  <dcterms:modified xsi:type="dcterms:W3CDTF">2009-10-02T12:21:41Z</dcterms:modified>
  <cp:revision>88</cp:revision>
  <dc:subject>Subject</dc:subject>
  <dc:title>Title</dc:title>
</cp:coreProperties>
</file>