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2320" y="744120"/>
            <a:ext cx="49608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34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51280" y="9434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E18AED-06C5-43D4-BCC3-D6A47C0108B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A5566B-02EA-4FE2-B028-5D7CDB01575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EF357C-9985-4630-896E-722ECFD29A6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8B9265-7BC1-4CC7-851C-ACE6226586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DBA16F-4E97-4588-BAAF-14FE6B8F3D9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8847F3-4CA2-43DC-A6E7-D5D924F9DF9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48C521-CBC3-448C-9AFE-AB66F82BAF6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DC9E1D-36FB-45A3-9DA2-EFC9342CC0F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12D7DC-9F8F-40C7-B4BA-ADECA7EADE6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D47881-2060-40AA-84A1-33B67F26214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1ABBE0-D2EA-4824-A941-F2B261823A0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607601-852B-42E4-9B2A-52D90D47CF3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20A93A-C343-4F95-8ED8-2578195100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FDA171-8220-4AF5-9BB1-5EFB515C8B6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ACA6FA-310A-4372-AA29-55C12203169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ABDE0A-7810-4A0A-9DC3-02C71FE2066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A8292E-72A7-485B-B90C-87AAD95D59C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D26114-B13C-49B4-BD47-8A3C6C7A611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F8494F-0975-40C6-A18C-52F7794923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9A807F-F96F-487F-8F91-15A09A0021A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5D14CB-09AD-4148-BBBF-0FCBD6686B6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E7CACF-1E04-41A2-A572-CB38C5D9E9C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57888E-19B6-4FA5-AD58-1C017FEDD02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CC9A6F-C5AA-4A9F-9860-719B7ABE5D6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B453D9-530C-4FA4-A751-79C14055C82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1491F5-0DD6-4809-BB0F-D135AADCC38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1280" y="9434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43A8E5-049B-4A29-BD29-E7B138C92F7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41B8-6955-436D-B55E-2D3E6A63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7666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7001-28AC-4A13-B0E6-53CF352F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947F-4E2C-43D6-85C8-E4B7992E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2BF8-F087-4C34-A550-E1420B9F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565B-C725-435E-8142-5BDE26A5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38D0-21D2-4720-83F6-5529993B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DB77-A27D-419A-9E65-BAA97E74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2CDE-0738-4C81-B9EC-6B6B0CFE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CC65-5BA4-4935-9A3A-D865E134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5000" y="66240"/>
            <a:ext cx="8688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1FCA-7113-4A7E-B9DB-AA85624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40F8-0289-48D3-AA4D-21D57A9A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8E42-152D-4BBA-B7CF-413C8987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8F9F-D704-4BEC-9235-5901A74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2ED7-19F1-4607-BE00-BB61628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37666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1F3C-8E8D-422B-B7B2-928F1061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4914-121F-49FB-BFB3-CA5F57E6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37666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4C65-B4A6-4EAF-8CB4-57C4E4A9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4C50-C906-4455-A8FA-67DE9A01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44DB-5633-49B1-9954-83DD4B5E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6AB8-AAFF-4D19-9DCD-29571423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5000" y="66240"/>
            <a:ext cx="8688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1220-9000-4841-98DF-A1B807E9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6E34-9465-46DA-920A-99B64894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7666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0AA3-BFB3-45EB-93FA-B96E4106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A3A0-474F-4440-B0E4-1C4BED6A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Main_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9AD4-F4EA-4399-AAAF-A6D7F461A023}" type="slidenum"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65360" y="6386400"/>
            <a:ext cx="420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2480" y="663264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096920"/>
            <a:ext cx="9144000" cy="31680"/>
          </a:xfrm>
          <a:prstGeom prst="rect">
            <a:avLst/>
          </a:prstGeom>
          <a:gradFill rotWithShape="0">
            <a:gsLst>
              <a:gs pos="0">
                <a:srgbClr val="71a6ce"/>
              </a:gs>
              <a:gs pos="100000">
                <a:srgbClr val="006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14400" bIns="-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Main_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60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80" y="662472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65360" y="6386400"/>
            <a:ext cx="420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86400" y="65721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8CFC-C150-415D-8286-8BF4AC94F6C2}" type="slidenum">
              <a:rPr b="0" lang="en-GB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7286760" y="65721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5C4D-91D6-4AF4-9632-69636766FD2E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699920"/>
            <a:ext cx="85881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osal to Change the UNC AQ ‘Backstop Date’ to accommodate the 2010 Seasonal Normal Review</a:t>
            </a:r>
            <a:br>
              <a:rPr sz="3200"/>
            </a:b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 –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ctober 2009</a:t>
            </a:r>
            <a:br>
              <a:rPr sz="2400"/>
            </a:br>
            <a:br>
              <a:rPr sz="2400"/>
            </a:br>
            <a:r>
              <a:rPr b="0" i="1" lang="en-GB" sz="1800" spc="-1" strike="noStrike">
                <a:solidFill>
                  <a:srgbClr val="ff0033"/>
                </a:solidFill>
                <a:latin typeface="Arial"/>
              </a:rPr>
              <a:t>NOTE: Instances where TBC is stated in the slides is pending analysis </a:t>
            </a:r>
            <a:br>
              <a:rPr sz="1800"/>
            </a:br>
            <a:r>
              <a:rPr b="0" i="1" lang="en-GB" sz="1800" spc="-1" strike="noStrike">
                <a:solidFill>
                  <a:srgbClr val="ff0033"/>
                </a:solidFill>
                <a:latin typeface="Arial"/>
              </a:rPr>
              <a:t>completion (post 01/10/09). This data will be available for DESC </a:t>
            </a:r>
            <a:br>
              <a:rPr sz="1800"/>
            </a:br>
            <a:r>
              <a:rPr b="0" i="1" lang="en-GB" sz="1800" spc="-1" strike="noStrike">
                <a:solidFill>
                  <a:srgbClr val="ff0033"/>
                </a:solidFill>
                <a:latin typeface="Arial"/>
              </a:rPr>
              <a:t>or as a post meeting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AD31-A12A-4E4B-B031-B8A12610D774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the AQ backstop date in UNC from 01/10/2002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Start of the gas year in which a Seasonal Normal Review becomes effective (01/10/xx) – 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e.g. 01/02/10 backstop becomes 01/10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e.g. 01/02/15 backstop becomes 01/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Change to be effective 1</a:t>
            </a:r>
            <a:r>
              <a:rPr b="0" lang="en-GB" sz="1800" spc="-1" strike="noStrike" baseline="30000">
                <a:solidFill>
                  <a:srgbClr val="0b479f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 February the preceding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 backstop date would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At its shortest point (February prior to SN change effective year) 3 years 4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At its longest point (January prior to SN change effective year) 8 years 4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llustra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284960" y="836640"/>
            <a:ext cx="2255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33"/>
                </a:solidFill>
                <a:latin typeface="Arial"/>
              </a:rPr>
              <a:t>UNC SECTION H3.2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9EC0-697F-403F-B473-1DB4E3D85976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468360" y="4729320"/>
            <a:ext cx="7272360" cy="50472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104254"/>
              <a:gd name="adj5" fmla="val -373268"/>
              <a:gd name="adj6" fmla="val 104254"/>
            </a:avLst>
          </a:prstGeom>
          <a:solidFill>
            <a:srgbClr val="ccffcc"/>
          </a:solidFill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AQ Review calculation is able to take place in March using the new WAALP data back to 01/10/06 for AQs to be effective from 01/10/10 (on the new SN basis)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posal - Illustrative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755640" y="1341360"/>
            <a:ext cx="3095640" cy="938160"/>
          </a:xfrm>
          <a:prstGeom prst="borderCallout2">
            <a:avLst>
              <a:gd name="adj1" fmla="val 18750"/>
              <a:gd name="adj2" fmla="val -8333"/>
              <a:gd name="adj3" fmla="val 12180"/>
              <a:gd name="adj4" fmla="val -6564"/>
              <a:gd name="adj5" fmla="val 166666"/>
              <a:gd name="adj6" fmla="val -12666"/>
            </a:avLst>
          </a:prstGeom>
          <a:solidFill>
            <a:srgbClr val="ff99cc">
              <a:alpha val="40000"/>
            </a:srgbClr>
          </a:solidFill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1. Current UNC AQ Backstop Date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Is fixed as 01/10/2002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(UNC Section H3.2.3 and 3.2.4)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5148360" y="1344600"/>
            <a:ext cx="3097080" cy="938160"/>
          </a:xfrm>
          <a:prstGeom prst="borderCallout2">
            <a:avLst>
              <a:gd name="adj1" fmla="val 18750"/>
              <a:gd name="adj2" fmla="val -8333"/>
              <a:gd name="adj3" fmla="val 12180"/>
              <a:gd name="adj4" fmla="val 108967"/>
              <a:gd name="adj5" fmla="val 171236"/>
              <a:gd name="adj6" fmla="val 118606"/>
            </a:avLst>
          </a:prstGeom>
          <a:solidFill>
            <a:srgbClr val="99ccff"/>
          </a:solidFill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2. New Seasonal Normal Basis due to be effective from Effective Date 01/10/10 (start of new Gas Year)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324000" y="3360600"/>
            <a:ext cx="3095640" cy="50508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104254"/>
              <a:gd name="adj5" fmla="val -86476"/>
              <a:gd name="adj6" fmla="val 106921"/>
            </a:avLst>
          </a:prstGeom>
          <a:solidFill>
            <a:srgbClr val="ccffcc"/>
          </a:solidFill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4. New AQ Backstop Date becomes 01/10/2006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  <p:grpSp>
        <p:nvGrpSpPr>
          <p:cNvPr id="130" name="Group 25"/>
          <p:cNvGrpSpPr/>
          <p:nvPr/>
        </p:nvGrpSpPr>
        <p:grpSpPr>
          <a:xfrm>
            <a:off x="4859280" y="2784600"/>
            <a:ext cx="3816360" cy="1797120"/>
            <a:chOff x="4859280" y="2784600"/>
            <a:chExt cx="3816360" cy="1797120"/>
          </a:xfrm>
        </p:grpSpPr>
        <p:sp>
          <p:nvSpPr>
            <p:cNvPr id="131" name="Text Box 17"/>
            <p:cNvSpPr/>
            <p:nvPr/>
          </p:nvSpPr>
          <p:spPr>
            <a:xfrm>
              <a:off x="4859280" y="3635280"/>
              <a:ext cx="3816360" cy="94644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</a:rPr>
                <a:t>3. 1</a:t>
              </a:r>
              <a:r>
                <a:rPr b="1" i="1" lang="en-GB" sz="14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</a:rPr>
                <a:t> February 2010</a:t>
              </a:r>
              <a:endParaRPr b="0" lang="en-US" sz="1400" spc="-1" strike="noStrike">
                <a:solidFill>
                  <a:srgbClr val="ff00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</a:rPr>
                <a:t>AQ backstop Date is changed to </a:t>
              </a:r>
              <a:endParaRPr b="0" lang="en-US" sz="1400" spc="-1" strike="noStrike">
                <a:solidFill>
                  <a:srgbClr val="ff00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</a:rPr>
                <a:t>New SN Basis Effective Date – 4 Years</a:t>
              </a:r>
              <a:endParaRPr b="0" lang="en-US" sz="1400" spc="-1" strike="noStrike">
                <a:solidFill>
                  <a:srgbClr val="ff00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</a:rPr>
                <a:t>e.g. 01/10/10 – 4 = 01/10/06</a:t>
              </a:r>
              <a:endParaRPr b="0" lang="en-US" sz="14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012000" y="2784600"/>
              <a:ext cx="0" cy="79164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451640" y="2784600"/>
              <a:ext cx="0" cy="79164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</p:grpSp>
      <p:grpSp>
        <p:nvGrpSpPr>
          <p:cNvPr id="134" name="Group 30"/>
          <p:cNvGrpSpPr/>
          <p:nvPr/>
        </p:nvGrpSpPr>
        <p:grpSpPr>
          <a:xfrm>
            <a:off x="179280" y="2784600"/>
            <a:ext cx="8783640" cy="288720"/>
            <a:chOff x="179280" y="2784600"/>
            <a:chExt cx="8783640" cy="288720"/>
          </a:xfrm>
        </p:grpSpPr>
        <p:sp>
          <p:nvSpPr>
            <p:cNvPr id="135" name="Line 10"/>
            <p:cNvSpPr/>
            <p:nvPr/>
          </p:nvSpPr>
          <p:spPr>
            <a:xfrm>
              <a:off x="250920" y="2928600"/>
              <a:ext cx="8642160" cy="0"/>
            </a:xfrm>
            <a:prstGeom prst="line">
              <a:avLst/>
            </a:prstGeom>
            <a:ln w="349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8675640" y="2784600"/>
              <a:ext cx="28728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7308720" y="2784600"/>
              <a:ext cx="28764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38" name="Oval 13"/>
            <p:cNvSpPr/>
            <p:nvPr/>
          </p:nvSpPr>
          <p:spPr>
            <a:xfrm>
              <a:off x="5867280" y="2784600"/>
              <a:ext cx="28728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39" name="Oval 14"/>
            <p:cNvSpPr/>
            <p:nvPr/>
          </p:nvSpPr>
          <p:spPr>
            <a:xfrm>
              <a:off x="179280" y="2784600"/>
              <a:ext cx="28728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492360" y="2784600"/>
              <a:ext cx="28764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7885080" y="2784600"/>
              <a:ext cx="28728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</p:grpSp>
      <p:sp>
        <p:nvSpPr>
          <p:cNvPr id="142" name="Rectangle 41"/>
          <p:cNvSpPr/>
          <p:nvPr/>
        </p:nvSpPr>
        <p:spPr>
          <a:xfrm>
            <a:off x="228600" y="5300640"/>
            <a:ext cx="8686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ey Point - Change to backstop date has to be undertaken prior to March to allow use of the WAALP data in the AQ calculation</a:t>
            </a:r>
            <a:endParaRPr b="0" lang="en-US" sz="1600" spc="-1" strike="noStrike">
              <a:solidFill>
                <a:srgbClr val="ff00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FD66-3FF9-4802-816A-62B29E0FB9F9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posal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quirements: UNC Modification to be raised, reviewed and if agreed, implemented by 12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ebruary 2010 (4 months from tod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New SNCWV and model back calculating takes place in Jan-Feb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New WAALPs derived in Feb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21+ million backstop dates amended during February 2010 by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Revised WAALP data would then need to be loaded in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SSP AQ calculation takes place end March 2010 (LSP takes place end of April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6D8C-D13E-4106-9C8F-D7570E86F4ED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of Impacts of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ailed analysis has been under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Impacts cannot be fully assessed as this would require a change to the backstop date in the system and run of the AQ calcul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Provide as much detail and anticipated view of impact as possible to support industry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5 million Meter Points do not have a consumption history post 01/10/06 that could be imp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33"/>
                </a:solidFill>
                <a:latin typeface="Arial"/>
              </a:rPr>
              <a:t>xx% (tbc)</a:t>
            </a: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 of these did not calculate in 2009 as not part of a Live Confirmation / other r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b479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more this will be reduc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Rules within UNC (H3.2) regarding the ‘Relevant Metered Period’ (period for an AQ calcu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Comparison of impacts from last backstop date change in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Review of AQ 2009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Overview of AQ calculation valid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 indicates that the anticipated impact of backstop date change will be smal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FE40-B82E-4B34-BF1C-6AE6726E74AB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nalysis of Impacts of Propos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Although 1.5 million Meter Points that do not have a consumption history post 01/10/06 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reads will be provided between now and AQ Review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oserve receive approximately 1.5 million reads per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ould equate to an additional 30 million reads between October 2009 and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reads should be after 01/10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Annual Read Meters – once every 24 months (UNC M3.5.1 (a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Monthly Read Meters – once every 4 months (UNC M3.4.1 (a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As per UNC Section H3.2 – reviewing the Relevant Metered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. the period of consumption data that can be used in an AQ calcul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5974-C384-4D87-A00F-B45E286A3AAA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Q Backstop Date Change – </a:t>
            </a:r>
            <a:r>
              <a:rPr b="1" lang="en-GB" sz="2000" spc="-1" strike="noStrike">
                <a:solidFill>
                  <a:srgbClr val="0b479f"/>
                </a:solidFill>
                <a:latin typeface="Arial"/>
              </a:rPr>
              <a:t>Relevant Metered Period in AQ 2010 System Calculation - Approximate ‘Worst Case Scenario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128520" y="1252440"/>
            <a:ext cx="5235480" cy="1024200"/>
          </a:xfrm>
          <a:prstGeom prst="borderCallout2">
            <a:avLst>
              <a:gd name="adj1" fmla="val 18750"/>
              <a:gd name="adj2" fmla="val -8333"/>
              <a:gd name="adj3" fmla="val 11162"/>
              <a:gd name="adj4" fmla="val 109370"/>
              <a:gd name="adj5" fmla="val 273180"/>
              <a:gd name="adj6" fmla="val 117648"/>
            </a:avLst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</a:rPr>
              <a:t>3. 14</a:t>
            </a:r>
            <a:r>
              <a:rPr b="1" lang="en-GB" sz="14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</a:rPr>
              <a:t> March 2008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ximum time between NDM Annual Meter Reads is 24 months (M3.5.1(a)) i.e. earliest possible ‘ending Meter Read’ </a:t>
            </a:r>
            <a:r>
              <a:rPr b="1" i="1" lang="en-GB" sz="1400" spc="-1" strike="noStrike">
                <a:solidFill>
                  <a:srgbClr val="3366ff"/>
                </a:solidFill>
                <a:latin typeface="Arial"/>
              </a:rPr>
              <a:t>(For Monthly Read = 50 weeks = 17</a:t>
            </a:r>
            <a:r>
              <a:rPr b="1" i="1" lang="en-GB" sz="14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i="1" lang="en-GB" sz="1400" spc="-1" strike="noStrike">
                <a:solidFill>
                  <a:srgbClr val="3366ff"/>
                </a:solidFill>
                <a:latin typeface="Arial"/>
              </a:rPr>
              <a:t> March 2008)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372360" y="1197000"/>
            <a:ext cx="187164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116879"/>
              <a:gd name="adj5" fmla="val 304574"/>
              <a:gd name="adj6" fmla="val 130365"/>
            </a:avLst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</a:rPr>
              <a:t>1. 15</a:t>
            </a:r>
            <a:r>
              <a:rPr b="1" lang="en-GB" sz="14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</a:rPr>
              <a:t> March 2010*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- AQ 2010 SSP calculation completes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4572000" y="4797360"/>
            <a:ext cx="3959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104291"/>
              <a:gd name="adj5" fmla="val -77967"/>
              <a:gd name="adj6" fmla="val 106777"/>
            </a:avLst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600" indent="-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</a:rPr>
              <a:t>2. 14</a:t>
            </a:r>
            <a:r>
              <a:rPr b="1" lang="en-GB" sz="14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marL="12600" indent="-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st valid reading prior to this point that can be sued in an AQ calculation is the ‘ending Meter Read’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324000" y="4437000"/>
            <a:ext cx="3735360" cy="1584360"/>
          </a:xfrm>
          <a:prstGeom prst="borderCallout2">
            <a:avLst>
              <a:gd name="adj1" fmla="val 18750"/>
              <a:gd name="adj2" fmla="val -8333"/>
              <a:gd name="adj3" fmla="val 7212"/>
              <a:gd name="adj4" fmla="val 107694"/>
              <a:gd name="adj5" fmla="val -24046"/>
              <a:gd name="adj6" fmla="val 113388"/>
            </a:avLst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</a:rPr>
              <a:t>4. 26</a:t>
            </a:r>
            <a:r>
              <a:rPr b="1" lang="en-GB" sz="14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</a:rPr>
              <a:t> May 2007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arget opening date for NDM Annual Read Meters is 42 weeks before ending Meter Read (H3.2.5(b)). The ‘starting Meter Read is the latest reading prior to this date (H3.2.3(a))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66ff"/>
                </a:solidFill>
                <a:latin typeface="Arial"/>
              </a:rPr>
              <a:t>(Monthly Read = 17</a:t>
            </a:r>
            <a:r>
              <a:rPr b="1" i="1" lang="en-GB" sz="1400" spc="-1" strike="noStrike" baseline="30000">
                <a:solidFill>
                  <a:srgbClr val="3366ff"/>
                </a:solidFill>
                <a:latin typeface="Arial"/>
              </a:rPr>
              <a:t>th</a:t>
            </a:r>
            <a:r>
              <a:rPr b="1" i="1" lang="en-GB" sz="1400" spc="-1" strike="noStrike">
                <a:solidFill>
                  <a:srgbClr val="3366ff"/>
                </a:solidFill>
                <a:latin typeface="Arial"/>
              </a:rPr>
              <a:t> March 2007)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1403280" y="2492280"/>
            <a:ext cx="3959280" cy="1224000"/>
          </a:xfrm>
          <a:prstGeom prst="borderCallout2">
            <a:avLst>
              <a:gd name="adj1" fmla="val 18750"/>
              <a:gd name="adj2" fmla="val -8333"/>
              <a:gd name="adj3" fmla="val 9337"/>
              <a:gd name="adj4" fmla="val -14273"/>
              <a:gd name="adj5" fmla="val 123087"/>
              <a:gd name="adj6" fmla="val -27143"/>
            </a:avLst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600" indent="-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</a:rPr>
              <a:t>5. </a:t>
            </a:r>
            <a:r>
              <a:rPr b="1" lang="en-GB" sz="1400" spc="-1" strike="noStrike" u="sng">
                <a:solidFill>
                  <a:srgbClr val="3366ff"/>
                </a:solidFill>
                <a:uFillTx/>
                <a:latin typeface="Arial"/>
              </a:rPr>
              <a:t>26</a:t>
            </a:r>
            <a:r>
              <a:rPr b="1" lang="en-GB" sz="1400" spc="-1" strike="noStrike" u="sng" baseline="30000">
                <a:solidFill>
                  <a:srgbClr val="3366ff"/>
                </a:solidFill>
                <a:uFillTx/>
                <a:latin typeface="Arial"/>
              </a:rPr>
              <a:t>th</a:t>
            </a:r>
            <a:r>
              <a:rPr b="1" lang="en-GB" sz="1400" spc="-1" strike="noStrike" u="sng">
                <a:solidFill>
                  <a:srgbClr val="3366ff"/>
                </a:solidFill>
                <a:uFillTx/>
                <a:latin typeface="Arial"/>
              </a:rPr>
              <a:t> May 2004 (Annual)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marL="12600" indent="-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arliest possible date from which to take a starting Meter Read is 3 years prior to Target Opening Date (H3.2.3(a))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  <a:p>
            <a:pPr marL="12600" indent="-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66ff"/>
                </a:solidFill>
                <a:latin typeface="Arial"/>
              </a:rPr>
              <a:t>(</a:t>
            </a:r>
            <a:r>
              <a:rPr b="1" i="1" lang="en-GB" sz="1400" spc="-1" strike="noStrike" u="sng">
                <a:solidFill>
                  <a:srgbClr val="3366ff"/>
                </a:solidFill>
                <a:uFillTx/>
                <a:latin typeface="Arial"/>
              </a:rPr>
              <a:t>Monthly Read = 17</a:t>
            </a:r>
            <a:r>
              <a:rPr b="1" i="1" lang="en-GB" sz="1400" spc="-1" strike="noStrike" u="sng" baseline="30000">
                <a:solidFill>
                  <a:srgbClr val="3366ff"/>
                </a:solidFill>
                <a:uFillTx/>
                <a:latin typeface="Arial"/>
              </a:rPr>
              <a:t>th</a:t>
            </a:r>
            <a:r>
              <a:rPr b="1" i="1" lang="en-GB" sz="1400" spc="-1" strike="noStrike" u="sng">
                <a:solidFill>
                  <a:srgbClr val="3366ff"/>
                </a:solidFill>
                <a:uFillTx/>
                <a:latin typeface="Arial"/>
              </a:rPr>
              <a:t> March 2004)</a:t>
            </a:r>
            <a:endParaRPr b="0" lang="en-US" sz="1400" spc="-1" strike="noStrike">
              <a:solidFill>
                <a:srgbClr val="ff0033"/>
              </a:solidFill>
              <a:latin typeface="Arial"/>
            </a:endParaRPr>
          </a:p>
        </p:txBody>
      </p:sp>
      <p:grpSp>
        <p:nvGrpSpPr>
          <p:cNvPr id="159" name="Group 21"/>
          <p:cNvGrpSpPr/>
          <p:nvPr/>
        </p:nvGrpSpPr>
        <p:grpSpPr>
          <a:xfrm>
            <a:off x="179280" y="3932280"/>
            <a:ext cx="8783640" cy="288720"/>
            <a:chOff x="179280" y="3932280"/>
            <a:chExt cx="8783640" cy="288720"/>
          </a:xfrm>
        </p:grpSpPr>
        <p:sp>
          <p:nvSpPr>
            <p:cNvPr id="160" name="Line 9"/>
            <p:cNvSpPr/>
            <p:nvPr/>
          </p:nvSpPr>
          <p:spPr>
            <a:xfrm>
              <a:off x="250920" y="4076640"/>
              <a:ext cx="8642160" cy="0"/>
            </a:xfrm>
            <a:prstGeom prst="line">
              <a:avLst/>
            </a:prstGeom>
            <a:ln w="349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8675640" y="3932280"/>
              <a:ext cx="28728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6156360" y="3932280"/>
              <a:ext cx="28728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4427640" y="3932280"/>
              <a:ext cx="28728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179280" y="3932280"/>
              <a:ext cx="287280" cy="288720"/>
            </a:xfrm>
            <a:prstGeom prst="ellipse">
              <a:avLst/>
            </a:prstGeom>
            <a:solidFill>
              <a:srgbClr val="71a6ce"/>
            </a:solidFill>
            <a:ln w="22320">
              <a:solidFill>
                <a:srgbClr val="0b4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0033"/>
                </a:solidFill>
                <a:latin typeface="Arial"/>
              </a:endParaRPr>
            </a:p>
          </p:txBody>
        </p:sp>
      </p:grpSp>
      <p:sp>
        <p:nvSpPr>
          <p:cNvPr id="165" name="Text Box 22"/>
          <p:cNvSpPr/>
          <p:nvPr/>
        </p:nvSpPr>
        <p:spPr>
          <a:xfrm>
            <a:off x="5271480" y="5962680"/>
            <a:ext cx="38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* Approximate dates (28</a:t>
            </a:r>
            <a:r>
              <a:rPr b="0" i="1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March 2010 scheduled date)</a:t>
            </a:r>
            <a:endParaRPr b="0" lang="en-US" sz="12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8CDD-9006-43FE-BE95-82F8D0365FDD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of Impacts and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cont. Reviewing the Relevant Metered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Earliest consumption date that can be used in the AQ Review 2010 calculation is 17</a:t>
            </a:r>
            <a:r>
              <a:rPr b="0" lang="en-GB" sz="2000" spc="-1" strike="noStrike" baseline="30000">
                <a:solidFill>
                  <a:srgbClr val="0b479f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 March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Current backstop date therefore is no longer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The number of Meter Points with an end read on UK Link between 01/03/04 and 30/09/06 is </a:t>
            </a:r>
            <a:r>
              <a:rPr b="0" lang="en-GB" sz="1800" spc="-1" strike="noStrike">
                <a:solidFill>
                  <a:srgbClr val="ff0033"/>
                </a:solidFill>
                <a:latin typeface="Arial"/>
              </a:rPr>
              <a:t>(T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Deemed to be the maximum number of Meter Points potentially imp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Comparison to 2005 Backstop date change – best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Backstop was implemented to be 01/10/02 (previously was Meter Point specific)) (Mod 00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At that point - period that could be used in AQ Calculation (01/10/02 to March 2005) was 2 years 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Period in this proposal (01/10/2006 to 01/02/2010) will be 3 years 4 months (additional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6116-2566-4230-ADF2-A3670936DAA7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of Impacts of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 Number of Meter Points that did not calculate in 2005 as a result of the backstop date change wa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44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11 SSP, 435 L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resenting 0.01% of 4.5 million total that did not calc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er Points primarily fail to calculate for other r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Reasons occurring in time before the AQ backstop date was rea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Anomalies in asset, meter configuration and / or read histories result in AQ not being calc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Backstop date issue becomes secondary issue as these other issues will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2005: 99.9% of all non calculations were due to issues not associated with the backstop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2006 to 2009 AQ Review: 99.9% of all non calculations due to issues not associated with the backstop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System validates against the following, in the following order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1E65-FFB7-4AFA-A41E-7FBB6024D644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of Impacts of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914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Calculated AQs System Validation Order (groupings have been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76120" y="1628640"/>
          <a:ext cx="8591760" cy="2975040"/>
        </p:xfrm>
        <a:graphic>
          <a:graphicData uri="http://schemas.openxmlformats.org/drawingml/2006/table">
            <a:tbl>
              <a:tblPr/>
              <a:tblGrid>
                <a:gridCol w="982800"/>
                <a:gridCol w="3313080"/>
                <a:gridCol w="1512720"/>
                <a:gridCol w="1440000"/>
                <a:gridCol w="647640"/>
                <a:gridCol w="6955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Validation Order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479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AQ Non-Calculation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09 are provisional values)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479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er Point Count 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4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of Total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4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4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*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4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4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*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479f"/>
                    </a:solidFill>
                  </a:tcPr>
                </a:tc>
              </a:tr>
              <a:tr h="29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 Point Ownership / Live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6,605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5,002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 Point Configuration (DM / NDM)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,339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284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 Backstop Date (01/10/2002)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 Reading Configuration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251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392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ption &amp; Read details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79,989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80,785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91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29,630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86,595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ff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225"/>
          <p:cNvSpPr/>
          <p:nvPr/>
        </p:nvSpPr>
        <p:spPr>
          <a:xfrm>
            <a:off x="276120" y="4748040"/>
            <a:ext cx="8591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 values occur each year. Backstop date reduces year to year</a:t>
            </a:r>
            <a:endParaRPr b="0" lang="en-US" sz="18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cates backstop date is not a predominant issue for AQs not being calculated</a:t>
            </a:r>
            <a:endParaRPr b="0" lang="en-US" sz="18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1.5 million previously indicated are anticipated to be in category 1 (85%), 2, 4 and 5</a:t>
            </a:r>
            <a:endParaRPr b="0" lang="en-US" sz="1800" spc="-1" strike="noStrike">
              <a:solidFill>
                <a:srgbClr val="ff00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4A7E-5067-4564-B713-74E301DEB41B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of Impacts of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5. During the 2009 AQ Review for those Meter Points that did re-calculate</a:t>
            </a:r>
            <a:r>
              <a:rPr b="0" lang="en-GB" sz="2200" spc="-1" strike="noStrike">
                <a:solidFill>
                  <a:srgbClr val="0b479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477 Meter Points used a consumption history that was prior to 01/10/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Similar to 2005 numbers – feasible similar numbers will apply i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6. When an AQ re-calculation occ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Q backstop date moves to the date of the last read used in the last AQ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e.g. if an AQ is calculated using read date from 01/05/08 and 01/03/09, the AQ backstop date will move to 01/03/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reads prior to this date will be used in future AQ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+ million Meter Points calculated annually using recent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ity of Meter Points will have a backstop date post 01/10/2006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F4CD-6192-45EC-B1D6-1E3892DD8C36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tputs from the 2010 Seasonal Normal (SN) Review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sed SNCWVs, ALP, DAF and EWCF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Adjusted to the new SN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vised values will be used in the calculation of future and historical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eather Adjusted Annual Load Profil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WAAL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ALPs are subsequently used in the calculation of AQ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sting the relevant metered quantity of the AQ to a S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Representative of expected consumption under average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8469-C582-46F6-8435-97B86A8300B4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of Impacts of Proposal - </a:t>
            </a:r>
            <a:r>
              <a:rPr b="1" lang="en-GB" sz="2400" spc="-1" strike="noStrike">
                <a:solidFill>
                  <a:srgbClr val="ff0033"/>
                </a:solidFill>
                <a:latin typeface="Arial"/>
              </a:rPr>
              <a:t>TB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91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alysis of reads used in AQ Review calculation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 of Meter Points with an End Read occurring in (% of tota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xxxx (xx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2008: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xxxx (xx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2007: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xxxx (xx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2006 :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xxxx (xx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2005 :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xxxx (xx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2004 :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xxxx (xx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2003 :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xxxx (xx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291-6368-41BA-B653-5FF06A93CAFA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is of Impacts of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. AQs should be calculated based on a recent view of consumptio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Is consumption data pre 01/10/06 representative of the AQ in the preceding Gas Year (G1.6.2(d) / G1.6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Reads for annual read sites should be obtained every 24 months (UNC section M3.5.1) and monthly reads sites every 4 months (M3.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Recent reads should b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impact of this option in regards to AQs not being calculated is anticipated to be sm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sed on historical analysis and current available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Anticipated impact is expected to be of similar proportions or less due to the previou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F185-613F-49B5-A4A6-716DD4342C9C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ggested Timeline for Mod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008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October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Proposal raised &amp; discussed at 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cto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 Mod raised at UNC Mod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or Work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cto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as Distribution Work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ove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at DESC (if requ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ove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 Mod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tream Report &amp; send to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resentations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ce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 Mod Panel send Ofgem 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ebruary (max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gem determination &amp;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ebruar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K Link system update of backstop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K Link system update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 Worst case scenario UNC Modification Panel could make its decision 2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Januar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ED25-EE7C-49ED-987C-F0F6E1A9FFF7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equences of not Changing the Backstop 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0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decision delayed or not implement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Qs using history prior to 01/10/06 that are implemented on 1st October 2010 would be calculated on incorrect SN ba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Q calculations would not adhere to UNC section H3.4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Q values and therefore allocations, reconciliation and transportation charges would be incorrect for these Supply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 SN basis expected to introduce warmer SNCWVs therefore smaller AQ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b479f"/>
                </a:solidFill>
                <a:latin typeface="Arial"/>
              </a:rPr>
              <a:t>SSP and LSP AQs using pre 01/10/06 WAALPs will be overst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B9B-E3C4-468D-91E7-5B1751D7D2A6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360" y="66240"/>
            <a:ext cx="8918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ingency UNC Modificatio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ed After 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ntingencies required if MOD not implemented by 12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February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o that MOD was still implemented prior to Apri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rt on sites that have utilised data prior to or crossing 01/10/06 in the 2010 AQ cal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tes would be reviewed by xoserve manually ‘offline’ and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1. Recalculated using later read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2. Have their current AQ’s carried forward (and adjusted to the new SN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e place during March, April and May 2010 in preparation for May and June no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SP takes place during April - incorporate similar conting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would adhere to UNC (if Mod implemented by May 2010 / before Shipper not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Q backstop date would then be amended prior to the Shipper amendment window opening (June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0F48-1F91-4204-B873-03BD893E5B91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ingenc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C Modification not 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Modification not implemented and 01/10/2002 backstop remain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AQs utilising data prior to or crossing 01/10/06 be reviewe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1. Recalculated using later read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2. Have their current AQ’s carried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b479f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e place during April and May 2010 in preparation for May no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SP takes place during April - incorporate similar conting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ipper Appeals or Amendments using pre 01/10/06 data would also incorporate a similar contin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oserve do undertake manual analysis and can decide to carry forward an AQ if it is deemed to be based on inconsist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b479f"/>
                </a:solidFill>
                <a:latin typeface="Arial"/>
              </a:rPr>
              <a:t>This would be based on inconsistent SN data so could possibly be carried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ongoing approach would need to be identified and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DE11-3F0C-4DEE-B413-30D43B2FACEF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 ensure this is progressed to the timescales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come DESC thoughts / views / comments on the propos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the Backstop date in UNC from 01/10/02 to (start of the gas year in which a Seasonal Normal Review becomes effective) – 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to be effective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ebruary of the preceding ye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Timescales to ach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Limited anticipated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1564-A753-4EAC-AEF4-9A47F3686C4E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Q Calculation &amp; WAA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0240"/>
            <a:ext cx="868680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Q Calculation defined in UNC (H3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MQ represents the Relevant Metered Qua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maining part of the calculation is termed the WAAL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WAALP represents the adjustment of AQs to SN (UNC H3.1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NCWV is incorporated into the EWCF para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7336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1EA7-3B11-4E33-95A8-EB1C5CF304D0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Q Calculation – Historical WAA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KEY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Q calculations are based on historical consumption that is used to represent a view of expected consumption in the next 12 months adjusted to 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IMPAC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storical WAALP values have to be recalculated to the new SN basis to allow all AQs that are effective from 01/10/10 (latest SN Review) to be reflective of new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ALP values are recalculated to new SN basis using the most recent Demand Estimation demand models i.e. from 2008/09 to apply 2009/10 (UNC H3.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calculated values will be used in March 2010 (onwards) AQ Review calculation processes for AQs going live on 01/10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A38A-FD09-4885-A7B0-0301719A1273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Q Calculation – WAALPs and Non-Calculated AQ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Qs that are not calculated (i.e. Carry Forward AQ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ultiplicative factor per EUC will be applied to the current AQ value to adjust from the old SN basis to the new SN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 in UNC H3.4.4 (AQ = (Current AQ x (A/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e.g. </a:t>
            </a: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An AQ of 20,000 kWh in EUC Ba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Adjusted by multiplying difference between the old aggregate WAALP (356) and the new aggregate WAALP (3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Result 0.98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AQ to be effective from 01/10/10 on the new basis is 19,776 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224C-3EA9-434B-B04B-DA0FD5C436A0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line to Derive and Implement WAA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NCWV’s will be derived and finalised by the end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c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storical WAALP values are derived by re-running the latest Demand Estimation demand models (UNC H3.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takes place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January &amp; February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Latest Gas Year data has to be available to derive new values and new SNCWV values will not available until end of Dec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WAALP values up to February 2010 are loaded into Transporter systems during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Ongoing daily calculation and loading of WAALPs for March 2010 – September 2010 takes pl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Q calculation (SSP) takes place in March 2010 (LSP – Apr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479f"/>
                </a:solidFill>
                <a:latin typeface="Arial"/>
              </a:rPr>
              <a:t>Utilising historical WAALP values and metered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836-4E56-4C3D-9506-28433B821077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Timescales are tight to derive the new SNCWV and parameters based on the new SN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Most recent demand models have to be re-run to derive the new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Timescales allow WAALP values to be derived using the latest models calculating back to 01/10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Calculating additional historical WAALPs would require significant additional modelling as the models being used (as per UNC) only utilise data post 01/10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Models used to back calculate new WAALPs are based on data pertaining to 01/10/06 onwards (06/07, 07/08 and 08/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Using these models to derive WAALPs for any period prior to 01/10/06 could be deemed as in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Models not representative of the period prior to 01/10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fore WAALP data will only be available back to 01/10/2006 for AQ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6AAF-1CFE-48F3-9099-F5503A0F39D3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 (H3.2.3) currently states that AQs can be calculated using meter reads back to to 01/10/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Commonly referred to as the AQ ‘backstop dat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No consumption history prior to this date can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This was changed to 01/10/2002 in 2005 (Modification 00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Changed due to similar issue arising in the 2005 S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a result of UNC, systems would currently have to have WAALP data back to 01/10/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lict – what is possible and appropriate with what is required in U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Qs are calculated using the old (or a mixed) SN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SN basis is anticipated to create warmer SNCW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Old basis WAALPS creates AQs that are too high (allocation, charging, rec.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Would not adhere to UNC (two SN ba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281720" y="65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2186-9B42-45F0-9B23-8FA9948E04B1}" type="slidenum">
              <a:rPr b="0" lang="en-GB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000" y="66240"/>
            <a:ext cx="86886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llustration of Relevant UNC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91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vant UNC Section H3.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2.3 The starting Meter Read shall b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a) the latest Valid Meter Read before the target opening date, or if there was no such Meter Read less than three years before the target opening dat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) subject to paragraph 3.2.4, the first Valid Meter Read after the target opening d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d always that the starting Meter Read shall be no earlier tha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1 October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2.4 If there was no Valid Meter Read less than three years before the target opening date or more than 6 months before the ending Meter Read, or the first Valid Meter Read after the target opening date was earlier than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1 October 200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paragraph 3.1.2 shall app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ing a date in UNC is not a preferable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2c8"/>
              </a:buClr>
              <a:buFont typeface="Wingdings" charset="2"/>
              <a:buChar char="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b479f"/>
                </a:solidFill>
                <a:latin typeface="Arial"/>
              </a:rPr>
              <a:t>Same issue will arise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44360" y="1773360"/>
            <a:ext cx="8820360" cy="3384360"/>
          </a:xfrm>
          <a:prstGeom prst="rect">
            <a:avLst/>
          </a:prstGeom>
          <a:solidFill>
            <a:srgbClr val="c0c0c0">
              <a:alpha val="1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3T09:05:03Z</dcterms:created>
  <dc:creator/>
  <dc:description/>
  <dc:language>en-US</dc:language>
  <cp:lastModifiedBy>Bob Fletcher</cp:lastModifiedBy>
  <dcterms:modified xsi:type="dcterms:W3CDTF">2009-10-02T13:47:03Z</dcterms:modified>
  <cp:revision>670</cp:revision>
  <dc:subject/>
  <dc:title>Review of CWV Methodology</dc:title>
</cp:coreProperties>
</file>